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4992-736F-4A5D-ABAE-14BA577B1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….they are learning English, they are not deaf!  Don’t shout!  And no baby tal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nguage Experience Approach (LE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 create an experience, then talk, read, and write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nguage Instr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teacher considers the specific vocabulary and concepts ELLs are to learn. This may be different than the objectives for the other students– how to ask or answer a question, patterns in language (This is a ___. I am a___, He is a____…..), sentence structure, letters/ph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hance Comprehens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s for making the input comprehe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ffec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l students need to feel comfortable in a positive atmosphere before they can lea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ur Modaliti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ading, Writing, Listening and Sp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E71-9E6D-4B3A-8EF5-3E289438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1EA-422A-463A-8950-0B9446FB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9EA-897D-472D-97D3-8E226E5C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26A-2443-4CC3-A37A-CA8132B4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211-A628-4F69-9097-2126EBA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9CE-5869-4FF1-9C20-8B21328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EDD-39D1-497E-AC9E-FB901C90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137-B2CC-4A89-816C-94A7978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DE7-982B-4CF1-9755-0DD7676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270-70BE-408A-8006-D6D6D61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CAC-CB46-4BFC-A97D-F3D26C7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FAA-4242-4F82-B15D-A846DA3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61BE-683B-44FB-82CE-B115B4143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nhance Comprehen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01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nect learning to real life language and exper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79840" y="4819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466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BC (Activity Before Cont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agrams / pictures / vis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 to background knowl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ipulatives / realia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ocabulary games (memory, bingo, scavenger hu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del and demonst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peat, rephrase, paraphr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stures, facial expressions, body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ak slowly and clear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 the learning f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81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in 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physical response (TP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motivation, self este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anx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ely involve each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 backgrou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 culturally diverse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ddy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involvement / guest speakers and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5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ur Moda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grate listening, speaking, reading, and writing into content area less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590920"/>
            <a:ext cx="784872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operative le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ner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ral / Echo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del speaking and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 cen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guage Experience Approach (L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er’s theater / role pl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uthor’s chair (sharing 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en planning for ELLs, consider these ques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include some language instruc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content enhance comprehe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maintain a positive aff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esson include the four mod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184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instruction--vocabulary, language patterns (may not be the same as for other learne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--keep it positive, acknowledge culture, acknowledge prior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modalities Listening, Speaking, Reading,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87440"/>
            <a:ext cx="3124080" cy="143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ival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d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114800"/>
            <a:ext cx="32004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ng in hands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maps &amp;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ef or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ng writte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191120"/>
            <a:ext cx="3048120" cy="1279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material--no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in content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1387440"/>
            <a:ext cx="3200400" cy="13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conver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personal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ow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7240" y="5745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5760" y="594360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8000" y="1343160"/>
            <a:ext cx="4800600" cy="4190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4190760"/>
              <a:gd name="textAreaBottom" fmla="*/ 419112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2" y="8890"/>
                </a:lnTo>
                <a:lnTo>
                  <a:pt x="2512" y="10121"/>
                </a:lnTo>
                <a:lnTo>
                  <a:pt x="10121" y="10121"/>
                </a:lnTo>
                <a:lnTo>
                  <a:pt x="10121" y="2512"/>
                </a:lnTo>
                <a:lnTo>
                  <a:pt x="8890" y="2512"/>
                </a:lnTo>
                <a:lnTo>
                  <a:pt x="10800" y="0"/>
                </a:lnTo>
                <a:lnTo>
                  <a:pt x="12710" y="2512"/>
                </a:lnTo>
                <a:lnTo>
                  <a:pt x="11479" y="2512"/>
                </a:lnTo>
                <a:lnTo>
                  <a:pt x="11479" y="10121"/>
                </a:lnTo>
                <a:lnTo>
                  <a:pt x="19088" y="10121"/>
                </a:lnTo>
                <a:lnTo>
                  <a:pt x="19088" y="8890"/>
                </a:lnTo>
                <a:lnTo>
                  <a:pt x="21600" y="10800"/>
                </a:lnTo>
                <a:lnTo>
                  <a:pt x="19088" y="12710"/>
                </a:lnTo>
                <a:lnTo>
                  <a:pt x="19088" y="11479"/>
                </a:lnTo>
                <a:lnTo>
                  <a:pt x="11479" y="11479"/>
                </a:lnTo>
                <a:lnTo>
                  <a:pt x="11479" y="19088"/>
                </a:lnTo>
                <a:lnTo>
                  <a:pt x="12710" y="19088"/>
                </a:lnTo>
                <a:lnTo>
                  <a:pt x="10800" y="21600"/>
                </a:lnTo>
                <a:lnTo>
                  <a:pt x="8890" y="19088"/>
                </a:lnTo>
                <a:lnTo>
                  <a:pt x="10121" y="19088"/>
                </a:lnTo>
                <a:lnTo>
                  <a:pt x="10121" y="11479"/>
                </a:lnTo>
                <a:lnTo>
                  <a:pt x="2512" y="11479"/>
                </a:lnTo>
                <a:lnTo>
                  <a:pt x="2512" y="127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>
                  <a:alpha val="83137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160" y="283536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1000" y="28195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371600"/>
            <a:ext cx="3124080" cy="143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114800"/>
            <a:ext cx="32004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ng in hands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maps &amp;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ef oral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ng writte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191120"/>
            <a:ext cx="3276720" cy="1523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6080" y="1447920"/>
            <a:ext cx="3330720" cy="13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icture of a “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240" y="5745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5760" y="594360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1343160"/>
            <a:ext cx="4800600" cy="4190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4190760"/>
              <a:gd name="textAreaBottom" fmla="*/ 419112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2" y="8890"/>
                </a:lnTo>
                <a:lnTo>
                  <a:pt x="2512" y="10121"/>
                </a:lnTo>
                <a:lnTo>
                  <a:pt x="10121" y="10121"/>
                </a:lnTo>
                <a:lnTo>
                  <a:pt x="10121" y="2512"/>
                </a:lnTo>
                <a:lnTo>
                  <a:pt x="8890" y="2512"/>
                </a:lnTo>
                <a:lnTo>
                  <a:pt x="10800" y="0"/>
                </a:lnTo>
                <a:lnTo>
                  <a:pt x="12710" y="2512"/>
                </a:lnTo>
                <a:lnTo>
                  <a:pt x="11479" y="2512"/>
                </a:lnTo>
                <a:lnTo>
                  <a:pt x="11479" y="10121"/>
                </a:lnTo>
                <a:lnTo>
                  <a:pt x="19088" y="10121"/>
                </a:lnTo>
                <a:lnTo>
                  <a:pt x="19088" y="8890"/>
                </a:lnTo>
                <a:lnTo>
                  <a:pt x="21600" y="10800"/>
                </a:lnTo>
                <a:lnTo>
                  <a:pt x="19088" y="12710"/>
                </a:lnTo>
                <a:lnTo>
                  <a:pt x="19088" y="11479"/>
                </a:lnTo>
                <a:lnTo>
                  <a:pt x="11479" y="11479"/>
                </a:lnTo>
                <a:lnTo>
                  <a:pt x="11479" y="19088"/>
                </a:lnTo>
                <a:lnTo>
                  <a:pt x="12710" y="19088"/>
                </a:lnTo>
                <a:lnTo>
                  <a:pt x="10800" y="21600"/>
                </a:lnTo>
                <a:lnTo>
                  <a:pt x="8890" y="19088"/>
                </a:lnTo>
                <a:lnTo>
                  <a:pt x="10121" y="19088"/>
                </a:lnTo>
                <a:lnTo>
                  <a:pt x="10121" y="11479"/>
                </a:lnTo>
                <a:lnTo>
                  <a:pt x="2512" y="11479"/>
                </a:lnTo>
                <a:lnTo>
                  <a:pt x="2512" y="127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>
                  <a:alpha val="83137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6160" y="283536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1000" y="28195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c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84200" y="1752480"/>
            <a:ext cx="1815840" cy="762120"/>
            <a:chOff x="1384200" y="1752480"/>
            <a:chExt cx="1815840" cy="762120"/>
          </a:xfrm>
        </p:grpSpPr>
        <p:sp>
          <p:nvSpPr>
            <p:cNvPr id="124" name=""/>
            <p:cNvSpPr/>
            <p:nvPr/>
          </p:nvSpPr>
          <p:spPr>
            <a:xfrm>
              <a:off x="2209680" y="1860480"/>
              <a:ext cx="990360" cy="3049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384200" y="1752480"/>
              <a:ext cx="1752480" cy="762120"/>
              <a:chOff x="1384200" y="1752480"/>
              <a:chExt cx="1752480" cy="762120"/>
            </a:xfrm>
          </p:grpSpPr>
          <p:sp>
            <p:nvSpPr>
              <p:cNvPr id="126" name=""/>
              <p:cNvSpPr/>
              <p:nvPr/>
            </p:nvSpPr>
            <p:spPr>
              <a:xfrm>
                <a:off x="1384200" y="1887120"/>
                <a:ext cx="425520" cy="323640"/>
              </a:xfrm>
              <a:prstGeom prst="ellipse">
                <a:avLst/>
              </a:prstGeom>
              <a:solidFill>
                <a:srgbClr val="3399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09720" y="1887120"/>
                <a:ext cx="42552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9920" y="1968120"/>
                <a:ext cx="132480" cy="546120"/>
              </a:xfrm>
              <a:custGeom>
                <a:avLst/>
                <a:gdLst/>
                <a:ahLst/>
                <a:rect l="l" t="t" r="r" b="b"/>
                <a:pathLst>
                  <a:path w="576" h="1288">
                    <a:moveTo>
                      <a:pt x="48" y="568"/>
                    </a:moveTo>
                    <a:cubicBezTo>
                      <a:pt x="168" y="284"/>
                      <a:pt x="288" y="0"/>
                      <a:pt x="288" y="88"/>
                    </a:cubicBezTo>
                    <a:cubicBezTo>
                      <a:pt x="288" y="176"/>
                      <a:pt x="0" y="904"/>
                      <a:pt x="48" y="1096"/>
                    </a:cubicBezTo>
                    <a:cubicBezTo>
                      <a:pt x="96" y="1288"/>
                      <a:pt x="488" y="1216"/>
                      <a:pt x="576" y="124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859040" y="1968120"/>
                <a:ext cx="150120" cy="546120"/>
              </a:xfrm>
              <a:custGeom>
                <a:avLst/>
                <a:gdLst/>
                <a:ahLst/>
                <a:rect l="l" t="t" r="r" b="b"/>
                <a:pathLst>
                  <a:path w="576" h="1288">
                    <a:moveTo>
                      <a:pt x="48" y="568"/>
                    </a:moveTo>
                    <a:cubicBezTo>
                      <a:pt x="168" y="284"/>
                      <a:pt x="288" y="0"/>
                      <a:pt x="288" y="88"/>
                    </a:cubicBezTo>
                    <a:cubicBezTo>
                      <a:pt x="288" y="176"/>
                      <a:pt x="0" y="904"/>
                      <a:pt x="48" y="1096"/>
                    </a:cubicBezTo>
                    <a:cubicBezTo>
                      <a:pt x="96" y="1288"/>
                      <a:pt x="488" y="1216"/>
                      <a:pt x="576" y="124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60360" y="1752480"/>
                <a:ext cx="976320" cy="762120"/>
              </a:xfrm>
              <a:custGeom>
                <a:avLst/>
                <a:gdLst/>
                <a:ahLst/>
                <a:rect l="l" t="t" r="r" b="b"/>
                <a:pathLst>
                  <a:path w="1872" h="2144">
                    <a:moveTo>
                      <a:pt x="0" y="1288"/>
                    </a:moveTo>
                    <a:cubicBezTo>
                      <a:pt x="888" y="644"/>
                      <a:pt x="1776" y="0"/>
                      <a:pt x="1824" y="88"/>
                    </a:cubicBezTo>
                    <a:cubicBezTo>
                      <a:pt x="1872" y="176"/>
                      <a:pt x="512" y="1488"/>
                      <a:pt x="288" y="1816"/>
                    </a:cubicBezTo>
                    <a:cubicBezTo>
                      <a:pt x="64" y="2144"/>
                      <a:pt x="456" y="2024"/>
                      <a:pt x="480" y="2056"/>
                    </a:cubicBezTo>
                    <a:cubicBezTo>
                      <a:pt x="504" y="2088"/>
                      <a:pt x="468" y="2048"/>
                      <a:pt x="432" y="200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09120" y="1988640"/>
                <a:ext cx="74880" cy="8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1676520" y="7315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6360" y="5089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200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B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Basic Interperson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, I really am enjoying being with you on Tuesday. I hope we can get together again. Can you tell me what you’ll be doing nex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ognitive Academic Language Pro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orse failure showed, the ability to navigate the high seas, although an impressive feat in itself, gave no guarantee of succes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68400" y="773280"/>
            <a:ext cx="24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 CA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77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assume the ease/difficulty of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misinterpret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ing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at others’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misdiagnose the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di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send subtle cues f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in your seat and stay quiet, don’t be a distraction, and I won’t hassle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ll learners,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tiv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L student will use whatever tools are available as she/he strives to make sense of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modeling (a.k.a. scouting, looking 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peer support (e.g., trans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rience of being 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can be damaged by: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tion of low likelihood fo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ar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insic reward and/or 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this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picture of a bu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3600" spc="-1" strike="noStrike">
                <a:solidFill>
                  <a:srgbClr val="ff6600"/>
                </a:solidFill>
                <a:latin typeface="Poornut"/>
              </a:rPr>
              <a:t>fun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2800" spc="-1" strike="noStrike">
                <a:solidFill>
                  <a:srgbClr val="ff0000"/>
                </a:solidFill>
                <a:latin typeface="Engravers MT"/>
              </a:rPr>
              <a:t>sc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make it a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rea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can I help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4000" y="1708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124080"/>
            <a:ext cx="1295280" cy="121932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1295640" cy="1219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124080"/>
            <a:ext cx="304776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3240" y="24382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2200" y="2438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3623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bd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429000"/>
            <a:ext cx="403200" cy="2057400"/>
          </a:xfrm>
          <a:custGeom>
            <a:avLst/>
            <a:gdLst/>
            <a:ahLst/>
            <a:rect l="l" t="t" r="r" b="b"/>
            <a:pathLst>
              <a:path w="576" h="1288">
                <a:moveTo>
                  <a:pt x="48" y="568"/>
                </a:moveTo>
                <a:cubicBezTo>
                  <a:pt x="168" y="284"/>
                  <a:pt x="288" y="0"/>
                  <a:pt x="288" y="88"/>
                </a:cubicBezTo>
                <a:cubicBezTo>
                  <a:pt x="288" y="176"/>
                  <a:pt x="0" y="904"/>
                  <a:pt x="48" y="1096"/>
                </a:cubicBezTo>
                <a:cubicBezTo>
                  <a:pt x="96" y="1288"/>
                  <a:pt x="488" y="1216"/>
                  <a:pt x="576" y="12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3429000"/>
            <a:ext cx="457200" cy="2057400"/>
          </a:xfrm>
          <a:custGeom>
            <a:avLst/>
            <a:gdLst/>
            <a:ahLst/>
            <a:rect l="l" t="t" r="r" b="b"/>
            <a:pathLst>
              <a:path w="576" h="1288">
                <a:moveTo>
                  <a:pt x="48" y="568"/>
                </a:moveTo>
                <a:cubicBezTo>
                  <a:pt x="168" y="284"/>
                  <a:pt x="288" y="0"/>
                  <a:pt x="288" y="88"/>
                </a:cubicBezTo>
                <a:cubicBezTo>
                  <a:pt x="288" y="176"/>
                  <a:pt x="0" y="904"/>
                  <a:pt x="48" y="1096"/>
                </a:cubicBezTo>
                <a:cubicBezTo>
                  <a:pt x="96" y="1288"/>
                  <a:pt x="488" y="1216"/>
                  <a:pt x="576" y="12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2616120"/>
            <a:ext cx="2971800" cy="2870280"/>
          </a:xfrm>
          <a:custGeom>
            <a:avLst/>
            <a:gdLst/>
            <a:ahLst/>
            <a:rect l="l" t="t" r="r" b="b"/>
            <a:pathLst>
              <a:path w="1872" h="2144">
                <a:moveTo>
                  <a:pt x="0" y="1288"/>
                </a:moveTo>
                <a:cubicBezTo>
                  <a:pt x="888" y="644"/>
                  <a:pt x="1776" y="0"/>
                  <a:pt x="1824" y="88"/>
                </a:cubicBezTo>
                <a:cubicBezTo>
                  <a:pt x="1872" y="176"/>
                  <a:pt x="512" y="1488"/>
                  <a:pt x="288" y="1816"/>
                </a:cubicBezTo>
                <a:cubicBezTo>
                  <a:pt x="64" y="2144"/>
                  <a:pt x="456" y="2024"/>
                  <a:pt x="480" y="2056"/>
                </a:cubicBezTo>
                <a:cubicBezTo>
                  <a:pt x="504" y="2088"/>
                  <a:pt x="468" y="2048"/>
                  <a:pt x="432" y="20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68920" y="550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505320"/>
            <a:ext cx="2286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7760" y="342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makes the task easier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w a picture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heta domesticu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94000" y="1708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3248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447920" y="0"/>
          <a:ext cx="716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716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95480" y="30481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16002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9600" y="152388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327672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3434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8088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609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495680"/>
            <a:ext cx="2133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anguage Instr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 activities for directly teaching vocabulary and languag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4624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819520"/>
            <a:ext cx="76201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bel class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k and answer yes/no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ro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llustrating vocabul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d wa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d ga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s, chants, so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background knowl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 Robeck</cp:lastModifiedBy>
  <dcterms:modified xsi:type="dcterms:W3CDTF">2008-03-10T15:15:49Z</dcterms:modified>
  <cp:revision>5</cp:revision>
  <dc:subject/>
  <dc:title>Draw a picture of  Acheta domesticus  include details</dc:title>
</cp:coreProperties>
</file>